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55B1-2FDF-4D82-BD69-6F24AA46E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0871-C5C7-4B81-87B5-6FC134A88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CC47-EB58-4CA1-87F7-A70725859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080E-A7BD-4414-9700-9940E938E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AC3A-35D9-4DDF-B231-1B2F5C9B4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1717-7A56-4A69-A0AC-1F7267E30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76FB-1140-4B63-827E-C3140C974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D4A2-A0D4-4947-AE59-62A4B6C05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BA76-6F02-445F-BCE3-1966846EB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A2B8-C53F-4472-B2D3-6CD47AF61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E182-9BE1-45E7-9A50-4D81C9799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3957-A3E2-4743-B47D-A5F8AE87F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C458-2510-4F0D-834D-641C3A37C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FAEF-18C3-4F3B-8CEB-D4488E384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4D11-3AAB-4060-90B9-B7ACBBD60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02FF-7976-4D11-BDB0-42E5B6801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B7A8-1639-41BB-A565-B375AC353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AE7A-5BFE-4146-AEA2-2173A9A3C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DC86-ABF7-4D88-B3E9-3F931BC40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907A-BB0F-4042-B9F3-52B116901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8A40-F67A-43E8-AFE8-8C66A4320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93D0-879B-41E6-A102-1A4C447FA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B95B-8B51-44B1-9CC7-B76B8C920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0216-3184-46C2-8BE5-7F339BA04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4891-9CA3-4B60-9E31-BEC466B97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CD0D-9246-4959-B446-4D1009772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B0B9-C521-4502-9CA1-398E926F8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B79E-72ED-4E20-8B1B-36B2CB1CD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D478-012B-46F8-8AB5-50CB17052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4505-893A-496F-89D1-10F6B1447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AEBF-C1BD-4498-9FA6-C1C6D9CFD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AD91-F571-4B06-9FAC-509193AB5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930-EBEC-4347-9BA4-B2F59E3A5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D019-F64D-4C06-B4E5-CCB754950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6B40-79DC-42D7-8BCF-13865EF3E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D3FA-5F34-4A0C-A685-4A09DCE99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8339-DBCE-4185-AC35-D8D351132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8481-E1AF-4C5F-9CD5-FE45AEC6F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9EB5-93B2-4B4F-9DCD-4C441E22E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25D0-6DB2-4192-BB01-B8F739B79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35DD-5BCB-470B-904D-B3A1FF88E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2DC0-B04C-429C-ABE5-9F30B0118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78FD-EB59-4263-8E46-D9462B7A6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A22B-BD1D-40D7-BE7E-3A1295C95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1F54-2BCE-4A1E-A0D4-DA2EA6782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21B5-6D3F-4D9B-A647-0B021209B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D6C72-26BC-44BB-A853-D162FF27D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552A-E225-40F1-9F5A-D1C217725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596C-903E-471F-A36B-3D136569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694E2-67D4-430B-83B8-C8A977FA7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D2C72-47FA-49CD-8C94-88AB25AD5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F1626-3D28-455B-AA85-E51EF794A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41379-7D05-47A0-97E0-767700A9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47B3-28BD-488D-858E-09494FCA4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C7CF5-13BB-4532-A6D6-259F3CA5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C486-0D6F-4188-8633-DBD0FE10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C6E5-691B-40C6-B953-00F751B0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0956-116C-4E59-90CE-D963A42A2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BD53-9597-4912-800E-3329A40EB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9"/>
                                        </p:tgtEl>
                                        <p:attrNameLst>
                                          <p:attrName>style.visibility</p:attrName>
                                        </p:attrNameLst>
                                      </p:cBhvr>
                                      <p:to>
                                        <p:strVal val="visible"/>
                                      </p:to>
                                    </p:set>
                                    <p:animEffect filter="fade" transition="in">
                                      <p:cBhvr additive="repl">
                                        <p:cTn id="506" dur="2000"/>
                                        <p:tgtEl>
                                          <p:spTgt spid="169"/>
                                        </p:tgtEl>
                                      </p:cBhvr>
                                    </p:animEffect>
                                    <p:anim calcmode="lin" valueType="num">
                                      <p:cBhvr additive="repl">
                                        <p:cTn id="507" dur="2000" fill="hold"/>
                                        <p:tgtEl>
                                          <p:spTgt spid="169"/>
                                        </p:tgtEl>
                                        <p:attrNameLst>
                                          <p:attrName>r</p:attrName>
                                        </p:attrNameLst>
                                      </p:cBhvr>
                                      <p:tavLst>
                                        <p:tav tm="0">
                                          <p:val>
                                            <p:strVal val="720"/>
                                          </p:val>
                                        </p:tav>
                                        <p:tav tm="100000">
                                          <p:val>
                                            <p:strVal val="0"/>
                                          </p:val>
                                        </p:tav>
                                      </p:tavLst>
                                    </p:anim>
                                    <p:anim calcmode="lin" valueType="num">
                                      <p:cBhvr additive="repl">
                                        <p:cTn id="508" dur="2000" fill="hold"/>
                                        <p:tgtEl>
                                          <p:spTgt spid="169"/>
                                        </p:tgtEl>
                                        <p:attrNameLst>
                                          <p:attrName>ppt_h</p:attrName>
                                        </p:attrNameLst>
                                      </p:cBhvr>
                                      <p:tavLst>
                                        <p:tav tm="0">
                                          <p:val>
                                            <p:fltVal val="0"/>
                                          </p:val>
                                        </p:tav>
                                        <p:tav tm="100000">
                                          <p:val>
                                            <p:strVal val="#ppt_h"/>
                                          </p:val>
                                        </p:tav>
                                      </p:tavLst>
                                    </p:anim>
                                    <p:anim calcmode="lin" valueType="num">
                                      <p:cBhvr additive="repl">
                                        <p:cTn id="509"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argaret Smith</cp:lastModifiedBy>
  <dcterms:modified xsi:type="dcterms:W3CDTF">2010-08-31T03:44:12Z</dcterms:modified>
  <cp:revision>4</cp:revision>
  <dc:subject/>
  <dc:title>Slide 1</dc:title>
</cp:coreProperties>
</file>